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37F-B806-4A05-944C-100B9485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FE2-1AEB-48E8-A2BF-CDC8B0F2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DF2-FCDD-4ABA-B734-5EC298E8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90D-C77A-4C04-AB7C-7FE7047A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327-BF8E-42EC-86E0-037EDB50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B41-1510-4294-8F04-3B3299CD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A41-6FBE-4CE8-A2FF-42F28A9A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2BE-682A-4B51-9DB2-9E9E2A52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C67-4B72-4D26-BDD7-30639FFF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822-BDB1-455F-A700-B4C3CED1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721-270E-42C2-8965-E496AE73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524-D3E2-479D-BD97-500AE22A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A505-18D4-4725-9255-389B03C5A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                                         PORTOBELLO                               PRESTWICK  RINK                               PRESTWICK                               SHETLAND                                    STIR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NEHAVEN                             STONEHAVEN                   STONEHAVEN  MILLENNIUM                     TEVIOTDALE                                         THISTLE                                    TURRI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0520" y="260280"/>
            <a:ext cx="1225440" cy="117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7324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72888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168880" y="3333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77240" y="26028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08880" y="40464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8880" y="1700280"/>
            <a:ext cx="148104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728880" y="2133720"/>
            <a:ext cx="1024200" cy="106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097600" y="1989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8121600" y="2060640"/>
            <a:ext cx="1044720" cy="10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31616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2000160" y="350028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3584520" y="364500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6824520" y="36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8193240" y="3500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488880" y="5229360"/>
            <a:ext cx="1243080" cy="139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WEEDBANK                            WEST  LOTHIAN                              WEST  LOTHIAN                            WEST  LOTHIAN  25TH                      WEST  OF  SCOTLAND         WEST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6753240" y="213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5240160" y="3645000"/>
            <a:ext cx="1038240" cy="103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HITEINCH                             SCOTTISH  INDOOR  B.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2144880" y="213372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73240" y="5373720"/>
            <a:ext cx="1170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21:59Z</dcterms:created>
  <dc:creator>JOHN YOUNG</dc:creator>
  <dc:description/>
  <dc:language>en-US</dc:language>
  <cp:lastModifiedBy>JY</cp:lastModifiedBy>
  <dcterms:modified xsi:type="dcterms:W3CDTF">2007-02-05T19:37:21Z</dcterms:modified>
  <cp:revision>11</cp:revision>
  <dc:subject/>
  <dc:title>PowerPoint Presentation</dc:title>
</cp:coreProperties>
</file>